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8840-AACB-4181-80DF-78802EE4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1945-201F-4E71-B11F-84D2A353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463B-6DC4-4119-84AA-3C6D9C86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7EE6-89C1-4A4B-889E-34826963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B5A4-5D92-4A94-B375-67EE92BC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B3FD-1B76-44E8-BFC5-620CFAC8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A54F-3D76-416A-B119-0D28AF79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2AD7-5FF5-4489-BC4E-A53808F2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D22B-8B48-4F1A-A734-41606243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4ED6-1DE3-4093-8FEE-46FA774B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7941-A6D8-41AE-BE28-A2F136A0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7785-078E-4869-839E-89B51EB1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157C-6247-4DC0-9D01-BE7A41BDB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regonlive.com/portland/index.ssf/2010/08/multnomah_county_seeks_new_lan.html" TargetMode="External"/><Relationship Id="rId2" Type="http://schemas.openxmlformats.org/officeDocument/2006/relationships/hyperlink" Target="http://www.oregonlive.com/pacific-northwest-news/index.ssf/2010/08/winds_push_central_oregon_wildfire_to_2650_acres_evacuations_encouraged.htm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alphaModFix amt="39000"/>
          </a:blip>
          <a:srcRect l="4673" t="20995" r="11675" b="19704"/>
          <a:stretch/>
        </p:blipFill>
        <p:spPr>
          <a:xfrm>
            <a:off x="4680" y="0"/>
            <a:ext cx="9128160" cy="6765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741240"/>
            <a:ext cx="8686800" cy="607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Arial"/>
              </a:rPr>
              <a:t>You are an ace reporter at your high school newspaper who just got a big assignment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Arial"/>
              </a:rPr>
              <a:t>Your editor sends you to the scene of the ac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Arial"/>
              </a:rPr>
              <a:t>The cafeteria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5029200"/>
            <a:ext cx="458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2240" y="5218200"/>
            <a:ext cx="5349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60680" y="4191120"/>
            <a:ext cx="7026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alphaModFix amt="39000"/>
          </a:blip>
          <a:srcRect l="4673" t="20995" r="11675" b="28969"/>
          <a:stretch/>
        </p:blipFill>
        <p:spPr>
          <a:xfrm>
            <a:off x="-12600" y="0"/>
            <a:ext cx="9232920" cy="6705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304920"/>
            <a:ext cx="8763120" cy="702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In the school cafeteria, where the votes for the school election have been tallied, one class president candidate is claiming that voter fraud has occurr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08080"/>
                </a:solidFill>
                <a:latin typeface="Arial"/>
              </a:rPr>
              <a:t>What do you do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>
            <a:alphaModFix amt="39000"/>
          </a:blip>
          <a:srcRect l="17023" t="20995" r="11675" b="36356"/>
          <a:stretch/>
        </p:blipFill>
        <p:spPr>
          <a:xfrm>
            <a:off x="349200" y="228600"/>
            <a:ext cx="5670720" cy="5991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410080" y="533520"/>
            <a:ext cx="3063960" cy="218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6560" y="201600"/>
            <a:ext cx="4105440" cy="643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urvey the sc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What do you se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What details do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What do you he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Who is on scene you can talk t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Officials, witness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What should you ask? What details do you need to make sense of the s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686560" y="3197160"/>
            <a:ext cx="265104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alphaModFix amt="39000"/>
          </a:blip>
          <a:srcRect l="4673" t="20995" r="11675" b="28969"/>
          <a:stretch/>
        </p:blipFill>
        <p:spPr>
          <a:xfrm>
            <a:off x="0" y="-154080"/>
            <a:ext cx="9344160" cy="7166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8080"/>
                </a:solidFill>
                <a:latin typeface="Arial"/>
              </a:rPr>
              <a:t>The Five W’s, one 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819520" cy="586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Arial"/>
              </a:rPr>
              <a:t>Wh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Arial"/>
              </a:rPr>
              <a:t>What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Arial"/>
              </a:rPr>
              <a:t>W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Arial"/>
              </a:rPr>
              <a:t>Whe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Arial"/>
              </a:rPr>
              <a:t>Wh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Arial"/>
              </a:rPr>
              <a:t>H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81480" y="1600200"/>
            <a:ext cx="364500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alphaModFix amt="39000"/>
          </a:blip>
          <a:srcRect l="4673" t="24395" r="17360" b="32362"/>
          <a:stretch/>
        </p:blipFill>
        <p:spPr>
          <a:xfrm>
            <a:off x="-76320" y="0"/>
            <a:ext cx="9372600" cy="74674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For accurate, unbiased reporting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82240" cy="586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Leave your opinion out of the story. Include only cited facts and details and quotes from sour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Sources must be identified in the article and quotes must be word for wo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Don’t rely on one source. Talk to multiple people to get all sides of the 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Double check your facts. If you aren’t sure, call your source ba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real lif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oregonlive.com/portland/index.ssf/2010/08/multnomah_county_seeks_new_la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oregonlive.com/pacific-northwest-news/index.ssf/2010/08/winds_push_central_oregon_wildfire_to_2650_acres_evacuations_encouraged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Take a look…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at sources are us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re all sides represen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re all the questions answered? Any holes? What else do you want to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03:55:13Z</dcterms:created>
  <dc:creator> </dc:creator>
  <dc:description/>
  <dc:language>en-US</dc:language>
  <cp:lastModifiedBy> </cp:lastModifiedBy>
  <dcterms:modified xsi:type="dcterms:W3CDTF">2010-08-12T04:48:19Z</dcterms:modified>
  <cp:revision>14</cp:revision>
  <dc:subject/>
  <dc:title>You arrive on the scene</dc:title>
</cp:coreProperties>
</file>